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6DB-1F6D-4272-B7E3-88D1AC0D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F98-4D9D-4043-9B98-21034872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8A7-DFBC-4853-AC75-2072F743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5BE-BE45-4F85-9E9D-78B03967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9603-BB15-40D3-A5EB-8A60C212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89A5-7CEA-4A84-9F15-766C62D8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CB6-F27F-4998-AE06-A85839C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7923-7605-4D59-A7D1-0491A8E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84F-76C5-43F4-AB06-2427A37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B9E-087A-4AB7-B80C-9DED4DC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16A-6E8B-4EB3-8E64-59B609A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01F-0A05-4BCA-A46A-31898DFB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68C-9466-4AE0-ADCD-3CD1194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7448-D79B-4007-A0AA-84C8624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2816-6C9F-4D34-A634-7C4885C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E5FC-CEEC-47F7-A250-1FFB3176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7AB7-5C8A-46C0-A1C1-6EAF5CBE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BAA-4F69-4DDE-B0A7-226601B0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8EB-FBB8-4AA3-A06C-DAFA0764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F8A-D6A9-47DC-B852-93F3CAF7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663-1E95-4F04-9D4B-E3C30A7B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04A-B0A0-4EBA-82EE-024DDDF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84E-B46E-41D3-B416-E11576D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279-A438-4F72-BEF8-5D06876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5D37-BD23-43E2-A183-DD52C62BC0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4DB9-D2C0-4B1E-AA09-6CF434961F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weter@telemaxdom.ru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Детская поликлини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с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381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wetsoft.naro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арта пациен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7240" y="793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дактирование карты пациен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5640" y="81756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02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ечать из спис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4360" y="7858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зультаты печати по групп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802640" cy="5654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380360" y="5373720"/>
            <a:ext cx="7999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Архив картоте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79056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мена отчетного пери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3543120" cy="164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170028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удобства ведения учета, предусмотрена процедура смены отчетного пери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чать отче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341360"/>
            <a:ext cx="244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а позволяет формировать самые разнообразные отчеты. Результаты записываются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l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йл, где по желанию пользователя возможны любые операции: хранения, форматирования, печати и т.д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4591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Результаты формирования отчетов в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Excel </a:t>
            </a:r>
            <a:r>
              <a:rPr b="0" lang="ru-RU" sz="2000" spc="-1" strike="noStrike">
                <a:solidFill>
                  <a:srgbClr val="dbbd71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правочная систем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7858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иобретение и регистрация программ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Необходимо оплатить всего 19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$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ез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bMoney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кошелек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Z 386 778 797 767 (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ллары СШ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 232 283 878 204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рубли России, по курсу ММВБ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Сообщить по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mail: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eter@telemaxdom.ru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D Machine (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м. рис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так же факт опла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Вам будет выслан Ваш персональный Регистрационный ключ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мечание: без регистрации программа работает в демонстрационном режим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843280" y="2644920"/>
            <a:ext cx="35049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азначение програм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назначена для ведения учета иммунизации детей и подростков, ведения учета заболеваний, создания планов вакцинации, получения статистической и другой отчетности и т.д. . В основном предназначен для применения в Детских поликлиник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рамма предусматрива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Ведение базы данных пациен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Ведение базы данных вакцин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Ведение базы данных медотвод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Ведение базы данных болезн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Ведение базы данных прочих характеристик пациен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зволяет получить следующие отчет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Возрастная сет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Состояние иммунизации (6 отчет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писок прибывших из неблагополучных регион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ехнические данны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а написана 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phi 5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иент сервер платформ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BA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стью на языке запросо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Q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ировалась на базе с более 100 тыс. запис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импортирование Ваших дан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ww.wetsoft.narod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талог програм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00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авное окно програм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8352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Меню програм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ню Баз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ню Справочник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ню Отче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1609560" cy="1581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2362320" cy="231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36576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хранность данны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28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индексация – увеличивает скорость поисковой систе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ервная копия – создает резервную копию базы дан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ение копиями – позволяет быстро развернуть резервную коп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5920" y="2441520"/>
            <a:ext cx="3895560" cy="3448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87800" y="2622600"/>
            <a:ext cx="49435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правочни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73656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исковая систем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81756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зультаты поис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81756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3:34:59Z</dcterms:created>
  <dc:creator>admin</dc:creator>
  <dc:description/>
  <dc:language>en-US</dc:language>
  <cp:lastModifiedBy>us</cp:lastModifiedBy>
  <dcterms:modified xsi:type="dcterms:W3CDTF">2009-01-19T15:31:12Z</dcterms:modified>
  <cp:revision>10</cp:revision>
  <dc:subject/>
  <dc:title>Детская поликлиника</dc:title>
</cp:coreProperties>
</file>